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9473-320F-4DBE-9F1A-B91E7700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09B6-0018-4C68-AABB-BF541ED0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49B0-FC28-43B5-B6F7-1138A38B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08CD-E668-4736-B95E-7EA129EA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3CF4-BF4F-4A84-8290-F29C73A6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E263-0AE9-4183-9A64-39C8C2D8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EF45-3D21-440D-8A24-179AD9E3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0398-7F57-43B7-BEB1-DE7DEA7D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64E0-75B3-46AE-83A9-7A071C7B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3E37-0991-4649-933C-84D75FD4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771E-3995-4ED2-A13D-2F6595D6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4868-B8E5-4F90-A1F1-050B4411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621A-FD39-437C-A172-14901776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3D59-C080-409F-9E18-8E586E18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4852-22C7-4825-A905-C21E38C4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B435-13BD-4CE7-B8D9-2CFBDD83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64CD-B665-47EE-952E-AFFB6753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8604-8E19-41E7-BC1B-00F6231A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C22A-0735-40BB-BFE4-32C6F0AF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EE8B-E268-4837-B684-326BAE1E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F54C-3F5D-46EF-AF8E-B3D06BF0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EEDE-765D-466A-A123-90AB3317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544E-783E-442E-8999-EC321005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FE22-DA02-4974-AAD2-89BCC590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F1E2-2D6A-49C0-8283-37BA02DA43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6100-F453-4053-9AE4-E495368FB1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vcaa.vic.edu.au/vce/studies/physicaledu/EnrgSys.pdf" TargetMode="External"/><Relationship Id="rId2" Type="http://schemas.openxmlformats.org/officeDocument/2006/relationships/hyperlink" Target="http://www.exrx.net/ExInfo/EnergyGraphs.html%20Accessed%20October%2018" TargetMode="External"/><Relationship Id="rId3" Type="http://schemas.openxmlformats.org/officeDocument/2006/relationships/hyperlink" Target="http://www.exrx.net/ExInfo/EnergyGraphs.html%20Accessed%20October%2018" TargetMode="External"/><Relationship Id="rId4" Type="http://schemas.openxmlformats.org/officeDocument/2006/relationships/hyperlink" Target="http://www.exrx.net/ExInfo/EnergyGraphs.html%20Accessed%20October%2018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600" spc="-1" strike="noStrike">
                <a:solidFill>
                  <a:srgbClr val="ffffff"/>
                </a:solidFill>
                <a:latin typeface="Arial"/>
              </a:rPr>
              <a:t>Energy Systems Interplay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ni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ffffff"/>
                </a:solidFill>
                <a:latin typeface="Arial"/>
              </a:rPr>
              <a:t>Energy Syste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65360" y="1600200"/>
            <a:ext cx="58118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ffffff"/>
                </a:solidFill>
                <a:latin typeface="Arial"/>
              </a:rPr>
              <a:t>High Intensity Competi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305920" cy="43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ffffff"/>
                </a:solidFill>
                <a:latin typeface="Arial"/>
              </a:rPr>
              <a:t>Energy Graph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exrx.net/ExInfo/EnergyGraph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ffffff"/>
                </a:solidFill>
                <a:latin typeface="Arial"/>
              </a:rPr>
              <a:t>Energy System Interplay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338120" y="762120"/>
            <a:ext cx="71964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ffffff"/>
                </a:solidFill>
                <a:latin typeface="Arial"/>
              </a:rPr>
              <a:t>Application Ques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dentify a period of active reco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n the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Justify your se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escribe the physiological proc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ccurring during this peri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at position is this player likely to be playing? Give reasons for your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ffffff"/>
                </a:solidFill>
                <a:latin typeface="Arial"/>
              </a:rPr>
              <a:t>Application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Why does the average speed of world records decrea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-   Consider the rate of energy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Distance (Freestyle)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50m 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0:21.6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100m 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0:47.8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200m 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1:44.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400m 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3:40.0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800m 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7:39.1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1500m 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14:34.5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How does the interplay of energy systems differ for a 100m swim event in comparison to a 100m sprint event?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EVENT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00m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:09.77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00m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:43.1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ffffff"/>
                </a:solidFill>
                <a:latin typeface="Arial"/>
              </a:rPr>
              <a:t>Interplay of the aerobic and anaerobic energ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4838760" cy="452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40320" y="6237360"/>
            <a:ext cx="667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VCCA exam review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vcaa.vic.edu.au/vce/studies/physicaledu/EnrgSys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www.vcaa.vic.edu.au/vce/studies/physicaledu/EnrgSys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ccessed October 18, 20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996666"/>
                </a:solidFill>
                <a:uFillTx/>
                <a:latin typeface="Arial"/>
                <a:hlinkClick r:id="rId3"/>
              </a:rPr>
              <a:t>www.exrx.net/ExInfo/EnergyGraphs.html</a:t>
            </a:r>
            <a:r>
              <a:rPr b="0" lang="en-US" sz="3200" spc="-1" strike="noStrike" u="sng">
                <a:solidFill>
                  <a:srgbClr val="996666"/>
                </a:solidFill>
                <a:uFillTx/>
                <a:latin typeface="Arial"/>
                <a:hlinkClick r:id="rId4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ccessed October 18, 20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1:15:55Z</dcterms:created>
  <dc:creator>Russell Simpson</dc:creator>
  <dc:description/>
  <dc:language>en-US</dc:language>
  <cp:lastModifiedBy>Russell Simpson</cp:lastModifiedBy>
  <dcterms:modified xsi:type="dcterms:W3CDTF">2010-10-20T09:15:32Z</dcterms:modified>
  <cp:revision>6</cp:revision>
  <dc:subject/>
  <dc:title>Slide 1</dc:title>
</cp:coreProperties>
</file>